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D6C2-3A88-4F68-97B3-9614A8F56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700B-30A1-4E4B-8DB6-BFC92C161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F14B-58DA-4D41-9A30-2BA5AC619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3A84-BDCE-42FA-933A-76095BFAF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C0B8-BBEA-4732-8718-39430872B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DAAC-4DF2-4C2A-B45B-6F37DF538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3D51-C638-4233-88BB-8F329B553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D8AD-1321-4C9E-84E3-2EC40AEA9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CA78-F8A5-49F2-AEB5-C8F4F9020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4C9F-E547-4895-BF06-88EF2F69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DB88-2AB3-4B75-9F53-92FC7378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583F-8C63-4FF9-9C4F-B0FD9095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6F115-0118-4083-8993-85BD60941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hyperlink" Target="http://www.freeplaymusic.com/" TargetMode="Externa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75"/>
            </a:gs>
            <a:gs pos="100000">
              <a:srgbClr val="ff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34320" y="480060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na 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11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62120" y="152280"/>
            <a:ext cx="72388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arbie Doll</a:t>
            </a:r>
            <a:endParaRPr b="0" lang="en-US" sz="1800" spc="1" strike="noStrike">
              <a:ln w="1260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1371600" cy="2209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33520" y="518148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410080" y="5022720"/>
            <a:ext cx="1362240" cy="18352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505320" y="4495680"/>
            <a:ext cx="1039680" cy="1833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8077320" y="1066680"/>
            <a:ext cx="1066680" cy="1828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flipH="1">
            <a:off x="2242440" y="4008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3657600"/>
            <a:ext cx="51814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, Free Play Music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Jaz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6/1/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95480" y="29718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: Ruth Hand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AC"/>
          <p:cNvPicPr/>
          <p:nvPr/>
        </p:nvPicPr>
        <p:blipFill>
          <a:blip r:embed="rId1"/>
          <a:stretch/>
        </p:blipFill>
        <p:spPr>
          <a:xfrm>
            <a:off x="6934320" y="3581280"/>
            <a:ext cx="2209680" cy="3276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5410080"/>
            <a:ext cx="426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 progra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uth Handl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/16/11, http://web.mit.edu/invent/iow/handler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Handler"/>
          <p:cNvPicPr/>
          <p:nvPr/>
        </p:nvPicPr>
        <p:blipFill>
          <a:blip r:embed="rId2"/>
          <a:stretch/>
        </p:blipFill>
        <p:spPr>
          <a:xfrm>
            <a:off x="0" y="0"/>
            <a:ext cx="67816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75"/>
            </a:gs>
            <a:gs pos="5000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rbie Do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 of paper or car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ate 60s even saw the certain of the “Barbie Libration Organize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bie’s appeared as a doctor, astronaunt, businesswomen, police officer, UNAICEF volunteer, and athle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bie product line is the most successful in the history of the indrus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bie doll (named in the honor of the Handler’s daughter, a pint-sized modle of the girl next do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Ruth Hand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th Handler undeniably invented and American icon that function as both a steady cyosure for girl’s dreams and an ever changing reflection of American socie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r spent some time designing a doll similar too Li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r created a three-dimensional adult female do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r sensed that it was just important for girls to im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r returned form a trip to Europe with a “Lilli” doll, modeled after a character in a German comic str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9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1T17:58:47Z</dcterms:created>
  <dc:creator>install</dc:creator>
  <dc:description/>
  <dc:language>en-US</dc:language>
  <cp:lastModifiedBy>install</cp:lastModifiedBy>
  <dcterms:modified xsi:type="dcterms:W3CDTF">2011-06-01T17:36:01Z</dcterms:modified>
  <cp:revision>8</cp:revision>
  <dc:subject/>
  <dc:title>Slide 1</dc:title>
</cp:coreProperties>
</file>